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C08-9410-4F32-BF96-AB9B992F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552-F893-4DC3-89E7-96AC5595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4A0-6D4E-4BDF-8150-DE02CFDD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5B2-50DF-438B-8AEF-49A072C3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B5DF-EB2E-444C-ACDD-8BFB5B4E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924-B136-4222-9C51-460085E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198-AE09-4A01-B972-8E82D83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901-4180-45B0-ADF7-D16222F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21F-1B93-44C5-B626-DC019044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8F7C-68F4-4DFA-8C1E-446A316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5FC-AF79-4358-BCCD-9B241429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B4CB-74A7-4127-95D0-95E1E46A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064E-459B-48CC-BFC6-1847799B2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WELCO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to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4b"/>
                </a:solidFill>
                <a:latin typeface="Times New Roman"/>
              </a:rPr>
              <a:t>Back to School Nigh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52680" y="4191120"/>
            <a:ext cx="24004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ions or Concern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ease contact 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my webpage on www.madisonpublic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me: 973-593-31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mail me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llm@madisonpublicschools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ed most days to practice skills and concepts covered in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count toward marking period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60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Grad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667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zes every few days, usually ann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zzes are worth 5 - 75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after each ch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are worth 10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activities worth 50-100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odl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 grade is calculated by dividing earned points by possibl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lcula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219320"/>
            <a:ext cx="2514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t all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-84 family of cal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writ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WAY to earn extra cred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done perfect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 of the points taken off that problem are  retu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apped at 20 points for AP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609480"/>
            <a:ext cx="4267080" cy="5700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________________________  Date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iz/Test 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#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ints off 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Complete explanation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what I did wro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n this proble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tailed explan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the correct solutio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e sure to explain your reasoning and what you know about the underlying concep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Correct solution to the problem, with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ll of my work show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xtra Hel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- Friday: before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- Friday: after sch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torial every period;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 Statistics periods 1, 2, 4, 5, and 8 by appointment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tutorial is period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1:13:49Z</dcterms:created>
  <dc:creator>Marcia Prill</dc:creator>
  <dc:description/>
  <dc:language>en-US</dc:language>
  <cp:lastModifiedBy> Marcia Prill</cp:lastModifiedBy>
  <dcterms:modified xsi:type="dcterms:W3CDTF">2010-03-19T15:11:55Z</dcterms:modified>
  <cp:revision>33</cp:revision>
  <dc:subject/>
  <dc:title>WELCOME</dc:title>
</cp:coreProperties>
</file>